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BFBD-826E-4D87-859C-AFF9A95060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366F-F815-4D76-AF18-A60FB9A2A37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1FBF-D741-466C-ADB0-715865ADDF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2584-E2B3-489E-8134-5609C7B3C2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4FE7-EFA0-462A-8E54-263D0EFF297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96D5-1F44-4802-B04F-8B3A8EC77AB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081A-41D7-47BD-AF83-1135F5CC41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8188-9DE3-4DA3-A5D0-CB5C26691A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FA8A-1AAA-4996-B837-A2CDC667C54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3D97-849A-4485-ACF2-0A32860F37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C911-27AE-42C5-A61A-374212C313E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FFF0-0FB8-4D45-8754-379C4F1582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CC82-DE7B-44CB-B0A7-7370026B90A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2F29-EEB5-4C23-8869-6033ACBD509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04D-9978-46A8-84AB-5313E81F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FAA-283A-412A-A2F7-06BD8C3A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5AB-4CFD-47EF-B667-A20DC778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00E-425D-4C91-94DA-37384ABC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7ABD-183D-4FD4-B64F-50823EA4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9817-4020-491F-847D-767C19A5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1AFF-BF7D-477C-B722-902CBFE9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7E62-6AF0-4FBC-A775-8CC9C160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E98B-A73F-4C21-A514-80BA8BA9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DC6B-1673-4945-B72C-07B206B9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F7CB-45E1-4583-B0CD-B70B5004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3B1-E9E9-4D5B-B6D2-971D9E84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91E4-77AF-4C07-BB0B-D4B82D8F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A0B4-DBB1-46D2-97CC-D3D58768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B194-272F-4307-9A00-EF6B64BB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2A4E-69C1-447D-9042-BF2EDA96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3118-869D-4F3B-986E-E869FB59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004F-E50A-46B6-B2F4-027062A5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C33F-B024-41E7-B04E-DDD492EC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81EE-38F3-4DF7-9E0A-E197A3A3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CEAC-FEF2-40D0-8F5A-17C29C63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6FE3-BB3B-4377-B47D-183248AC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41A-8E29-4375-9D5E-D11FEB50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6B15-C305-4D53-B168-9F62A8E1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2316-4C3B-4FEB-A2AB-958BE6D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49AB6-D43A-4505-9955-A227CFB2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68C9C-5B63-4905-93ED-A55AF334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6E8D-ED42-456F-B12F-381563B1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DD977-0F17-40C6-9DB8-F59E7088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0186-FA6B-47A2-B97B-FB503B8A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CD46C-C471-49E8-B65C-1919F3F4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48D8A-E2A7-43AF-913A-1B43319C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D216-3AB5-402A-BEF1-52A8A2FB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C7E-27B9-4DB8-8C7C-5EBA3288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37C5D-1185-4DCF-BA0C-A12602EE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159C5-9FE6-44FF-977D-DBFCFB3A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8B66E-6AD3-421A-8EEE-2464852C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ADB1F-E0AC-4E0E-8F29-6D5AAC1F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8B18A-E4D6-4255-9394-61785328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28AA4-2502-4608-88DD-990B4D79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FCD2F-4BFF-4D97-95B2-B75B4014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32C25-80E4-487B-AE2A-1A6B4449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4330-6862-43FE-B54A-2FAAA6E5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91561-40C1-4ACA-AC1D-04B205D0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762-5814-48FF-888C-0CE82877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F0E08-A7B4-4F66-BD01-5BB48AEC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768FD-6BDA-4B9E-A561-9D5DB754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3F551-17E1-4301-8ECA-AF8961F0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C6333-B5D3-4D9A-9011-7ABA8C68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F5512-59CE-4148-B08E-22C54E16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5957-778C-45E5-9388-0A202691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E5B01-5BAA-4EC6-8389-AA821CE8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78609-97B2-4331-A711-42CADC8E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EC020-D3BA-40E5-A5D3-1D005FC5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B7419-8919-4CE5-8E47-35E5D1D1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BE1-6C43-4F51-9721-5C093E73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BEAB6-8C2B-42EE-B8BC-B7F94111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59956-F57A-4357-A728-13F5F4A3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5B665-09C9-4EBF-89FB-CC73FEA6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F96A0-FA0E-4E79-BB39-CF046690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14446-D58E-4297-BE92-9C88FB4D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149BF-1A26-4FAE-8A29-E79E2D8A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11ADD-0D48-4BA6-9998-FAF54ACD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9B601-2298-4FA6-A3FB-CAB72E61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861CD-2CDF-474E-ABE0-A9B0EA06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76464-793C-41A3-8858-7A9822D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B1D-62F1-409E-9CD0-A62F2036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2A6BC-FA77-44D8-AEEC-68C28493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3B92D-C8E7-4D85-AD0D-B16985A4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CDB7D-4D13-488E-9340-EC8DD2B5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06DB8-47B8-4F1C-9CCF-65FD846A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FAE12-3FD8-4654-B9E8-9E2A8EF6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D3D9A-D17E-4169-911F-544E964C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C66FF-2606-47D9-B41F-A8AE7075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4C07E-53FF-48B9-B341-3A351D85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AC097-C426-4FF4-ABF7-3BD7FD60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369C0-F023-46E9-9503-0E43D0DE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234-3185-4C29-9ED2-9D637C19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C5E10-4707-4A5F-9AD8-2F0F822E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81D21-AD36-4C5D-90E5-81CDA35A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96688-61D7-46A7-BAA8-D46DA8C4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90830-C216-4F8E-A007-1B2D36A5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2B212-4590-4F06-9F7B-3BF1FE90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C9A-0915-4EEB-9F28-975FBC9A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5E73-92C2-4EA5-8C96-8FB18D92DB72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A93D-1BC7-45A0-940D-B8CA9D6F95EF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3CE4-474A-482A-ACD6-A9DD7C476ABF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0C06-9634-4242-A72A-3714FDCB696E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5DA4-7EAC-4CC7-A3F9-CFAE8DE2974F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9D65-252E-4638-B7D9-2F23764DC919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230D-537C-4500-B8D6-64CDCA1E1E4A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stronomy.ru/forum/index.php?topic=1237.0" TargetMode="External"/><Relationship Id="rId2" Type="http://schemas.openxmlformats.org/officeDocument/2006/relationships/hyperlink" Target="http://www.astronomy.ru/forum/index.php?topic=1237.0" TargetMode="External"/><Relationship Id="rId3" Type="http://schemas.openxmlformats.org/officeDocument/2006/relationships/hyperlink" Target="http://www.astronomy.ru/forum/index.php?topic=1237.0" TargetMode="External"/><Relationship Id="rId4" Type="http://schemas.openxmlformats.org/officeDocument/2006/relationships/hyperlink" Target="http://www.astronomy.ru/forum/index.php?topic=1237.0" TargetMode="External"/><Relationship Id="rId5" Type="http://schemas.openxmlformats.org/officeDocument/2006/relationships/hyperlink" Target="http://www.astronomy.ru/forum/index.php?topic=1237.0" TargetMode="External"/><Relationship Id="rId6" Type="http://schemas.openxmlformats.org/officeDocument/2006/relationships/hyperlink" Target="http://www.astronomy.ru/forum/index.php?topic=1237.0" TargetMode="External"/><Relationship Id="rId7" Type="http://schemas.openxmlformats.org/officeDocument/2006/relationships/hyperlink" Target="http://universe-online.narod.ru/origin.html" TargetMode="External"/><Relationship Id="rId8" Type="http://schemas.openxmlformats.org/officeDocument/2006/relationships/hyperlink" Target="http://universe-online.narod.ru/origin.html" TargetMode="External"/><Relationship Id="rId9" Type="http://schemas.openxmlformats.org/officeDocument/2006/relationships/hyperlink" Target="http://universe-online.narod.ru/origin.html" TargetMode="External"/><Relationship Id="rId10" Type="http://schemas.openxmlformats.org/officeDocument/2006/relationships/hyperlink" Target="http://universe-online.narod.ru/origin.html" TargetMode="External"/><Relationship Id="rId11" Type="http://schemas.openxmlformats.org/officeDocument/2006/relationships/hyperlink" Target="http://universe-online.narod.ru/origin.html" TargetMode="External"/><Relationship Id="rId12" Type="http://schemas.openxmlformats.org/officeDocument/2006/relationships/hyperlink" Target="http://www.bestreferat.ru/referat-38752.html" TargetMode="External"/><Relationship Id="rId13" Type="http://schemas.openxmlformats.org/officeDocument/2006/relationships/hyperlink" Target="http://www.bestreferat.ru/referat-38752.html" TargetMode="External"/><Relationship Id="rId14" Type="http://schemas.openxmlformats.org/officeDocument/2006/relationships/hyperlink" Target="http://www.bestreferat.ru/referat-38752.html" TargetMode="External"/><Relationship Id="rId15" Type="http://schemas.openxmlformats.org/officeDocument/2006/relationships/hyperlink" Target="http://www.bestreferat.ru/referat-38752.html" TargetMode="Externa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396720" y="1163520"/>
            <a:ext cx="9071280" cy="3835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3499920" y="4642920"/>
            <a:ext cx="5115240" cy="11019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bb8b"/>
                </a:solidFill>
                <a:latin typeface="Corbel"/>
              </a:rPr>
              <a:t>Горчакова Татьяна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bb8b"/>
                </a:solidFill>
                <a:latin typeface="Corbel"/>
              </a:rPr>
              <a:t>11 «А» класс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Consolas"/>
              </a:rPr>
              <a:t>Вывод:</a:t>
            </a:r>
            <a:endParaRPr b="0" lang="en-US" sz="6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Изучив тему «Происхождение Вселенной» я узнала, что такое Вселенная и из чего она состоит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;</a:t>
            </a: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 Изучила разные теории её происхождения, но сама придерживаюсь теории Большого взрыва, т. к. она наиболее вероятней, чем все остальные теории. Нашей вселенной около 13 млрд. лет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Consolas"/>
              </a:rPr>
              <a:t>Литература:</a:t>
            </a:r>
            <a:endParaRPr b="0" lang="en-US" sz="6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www.astronomy.ru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5"/>
              </a:rPr>
              <a:t>forum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6"/>
              </a:rPr>
              <a:t>/index.php?topic=1237.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9"/>
              </a:rPr>
              <a:t>universe-online.narod.ru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1"/>
              </a:rPr>
              <a:t>origin.ht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4"/>
              </a:rPr>
              <a:t>www.bestreferat.ru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5"/>
              </a:rPr>
              <a:t>/referat-38752.ht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nsolas"/>
              </a:rPr>
              <a:t>Цель:</a:t>
            </a:r>
            <a:endParaRPr b="0" lang="en-US" sz="44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85880" y="121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99880" indent="-24984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Изучить различные теории происхождения Вселенно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rbel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- Узнать, что такое Вселенная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- Рассмотреть строение Вселенной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- Выяснить возраст Вселенно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- Рассмотреть теории происхождения Вселенно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rbe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Consolas"/>
              </a:rPr>
              <a:t>Вселенная – это</a:t>
            </a:r>
            <a:endParaRPr b="0" lang="en-US" sz="54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80" name="Picture 2" descr="C:\Users\User\Desktop\Галактики   (инф)\картинки галактик\Картинки Планет\Вселенная.jpg"/>
          <p:cNvPicPr/>
          <p:nvPr/>
        </p:nvPicPr>
        <p:blipFill>
          <a:blip r:embed="rId1"/>
          <a:stretch/>
        </p:blipFill>
        <p:spPr>
          <a:xfrm>
            <a:off x="357120" y="1357200"/>
            <a:ext cx="8786880" cy="55008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857160" y="1785960"/>
            <a:ext cx="77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nsolas"/>
              </a:rPr>
              <a:t>Строение </a:t>
            </a:r>
            <a:r>
              <a:rPr b="0" lang="en-US" sz="4400" spc="-1" strike="noStrike">
                <a:solidFill>
                  <a:srgbClr val="ff0066"/>
                </a:solidFill>
                <a:latin typeface="Consolas"/>
              </a:rPr>
              <a:t>Вселенной</a:t>
            </a:r>
            <a:endParaRPr b="0" lang="en-US" sz="44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orbel"/>
              </a:rPr>
              <a:t>Вселенная представляет собой расширяющееся пространство, заполненное губкообразной клочковатой структурой. Стенки этой </a:t>
            </a:r>
            <a:r>
              <a:rPr b="0" lang="ru-RU" sz="2800" spc="-1" strike="noStrike">
                <a:solidFill>
                  <a:srgbClr val="00b0f0"/>
                </a:solidFill>
                <a:latin typeface="Corbel"/>
              </a:rPr>
              <a:t>губчатой</a:t>
            </a:r>
            <a:r>
              <a:rPr b="0" lang="ru-RU" sz="3200" spc="-1" strike="noStrike">
                <a:solidFill>
                  <a:srgbClr val="00b0f0"/>
                </a:solidFill>
                <a:latin typeface="Corbel"/>
              </a:rPr>
              <a:t> структуры – скопления млрд. звёздных галактик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orbel"/>
              </a:rPr>
              <a:t>Галактики состоят из сотен млрд. звёзд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orbel"/>
              </a:rPr>
              <a:t>Звёзды в основном состоят из водорода.</a:t>
            </a:r>
            <a:r>
              <a:rPr b="0" lang="ru-RU" sz="3000" spc="-1" strike="noStrike">
                <a:solidFill>
                  <a:srgbClr val="00b0f0"/>
                </a:solidFill>
                <a:latin typeface="Corbe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onsolas"/>
              </a:rPr>
              <a:t>Возраст Вселенной</a:t>
            </a:r>
            <a:endParaRPr b="0" lang="en-US" sz="6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b8b"/>
                </a:solidFill>
                <a:latin typeface="Corbel"/>
              </a:rPr>
              <a:t> </a:t>
            </a:r>
            <a:r>
              <a:rPr b="0" lang="en-US" sz="3600" spc="-1" strike="noStrike">
                <a:solidFill>
                  <a:srgbClr val="fcbb8b"/>
                </a:solidFill>
                <a:latin typeface="Corbel"/>
              </a:rPr>
              <a:t>- По библейским источникам, период времени от сотворения мира Богом до Рождества Христова насчитывал от 3483 до 6984 лет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b8b"/>
                </a:solidFill>
                <a:latin typeface="Corbel"/>
              </a:rPr>
              <a:t> </a:t>
            </a:r>
            <a:r>
              <a:rPr b="0" lang="en-US" sz="3600" spc="-1" strike="noStrike">
                <a:solidFill>
                  <a:srgbClr val="fcbb8b"/>
                </a:solidFill>
                <a:latin typeface="Corbel"/>
              </a:rPr>
              <a:t>- По теории Большого взрыва Вселенной около 13 млрд. лет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nsolas"/>
              </a:rPr>
              <a:t>Теории происхождения Вселенной</a:t>
            </a:r>
            <a:r>
              <a:rPr b="0" lang="en-US" sz="4000" spc="-1" strike="noStrike">
                <a:solidFill>
                  <a:srgbClr val="ff0000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5880" y="2071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Теория Большого взрыва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Теория: «Бесконечно пульсирующая Вселенная»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Креационизм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Теория «Разбиение сосудов»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nsolas"/>
              </a:rPr>
              <a:t>Теория большого взрыва</a:t>
            </a:r>
            <a:endParaRPr b="0" lang="en-US" sz="48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4400" spc="-1" strike="noStrike">
                <a:solidFill>
                  <a:srgbClr val="df9307"/>
                </a:solidFill>
                <a:latin typeface="Corbel"/>
              </a:rPr>
              <a:t>Вселенная возникла из очень малого объёма(с точку) с гигантскими температурой и плотностью, с тех пор она постоянно расширяется и охлаждается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3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7758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onsolas"/>
              </a:rPr>
              <a:t>Бесконечно пульсирующая Вселенная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57160" y="221436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4400" spc="-1" strike="noStrike">
                <a:solidFill>
                  <a:srgbClr val="92d050"/>
                </a:solidFill>
                <a:latin typeface="Corbel"/>
              </a:rPr>
              <a:t>Мир никогда не возникал и никогда не исчезнет, т. е. рождается и умирает бесконечное количество раз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85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385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385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385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nsolas"/>
              </a:rPr>
              <a:t>Креационизм</a:t>
            </a:r>
            <a:endParaRPr b="0" lang="en-US" sz="44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0" lang="en-US" sz="4000" spc="-1" strike="noStrike">
                <a:solidFill>
                  <a:srgbClr val="0070c0"/>
                </a:solidFill>
                <a:latin typeface="Corbel"/>
              </a:rPr>
              <a:t>Сотворение Вселенной Богом за 6 дней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rbel"/>
              </a:rPr>
              <a:t>Теория «Разбиение сосудов»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0" lang="en-US" sz="4000" spc="-1" strike="noStrike">
                <a:solidFill>
                  <a:srgbClr val="0070c0"/>
                </a:solidFill>
                <a:latin typeface="Corbel"/>
              </a:rPr>
              <a:t>Подобна теории Большого взрыва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7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70" fill="hold"/>
                                        <p:tgtEl>
                                          <p:spTgt spid="3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2:50:57Z</dcterms:created>
  <dc:creator>Горчакова</dc:creator>
  <dc:description/>
  <dc:language>en-US</dc:language>
  <cp:lastModifiedBy>07087</cp:lastModifiedBy>
  <dcterms:modified xsi:type="dcterms:W3CDTF">2009-11-25T12:55:31Z</dcterms:modified>
  <cp:revision>26</cp:revision>
  <dc:subject/>
  <dc:title>Теории происхождения Вселенной</dc:title>
</cp:coreProperties>
</file>